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81B-423B-4994-83BF-98215ABF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666-E460-4EEB-8097-167B8D71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79E-460C-46DD-A8B3-521BB180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775-6333-494E-A6C6-EF433F99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2E3-904C-44B5-84E6-32427EBE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A28-D29C-458B-A9A6-29261AFE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2F5-3C52-42FD-8E90-35FBB571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FE6-3038-45BE-BB38-C8C711B4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BCA-89BA-4FB6-A44E-65615B4A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2A3-CF10-420E-BBF9-CD91844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DC5-8661-42DA-92AD-E3101100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213-5F40-4FC9-A9D7-89B36C6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344B-8159-4DA8-A605-A7BDB4D7F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11&amp;12: Proportional Reasoning </a:t>
            </a:r>
            <a:br>
              <a:rPr sz="3200"/>
            </a:br>
            <a:r>
              <a:rPr b="0" lang="en-US" sz="3200" spc="-1" strike="noStrike">
                <a:solidFill>
                  <a:srgbClr val="0d469b"/>
                </a:solidFill>
                <a:latin typeface="Arial"/>
              </a:rPr>
              <a:t>Building to More Complex Relationships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rley Dalry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isa Suurt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69" name="Picture 6" descr="View Details"/>
          <p:cNvPicPr/>
          <p:nvPr/>
        </p:nvPicPr>
        <p:blipFill>
          <a:blip r:embed="rId1"/>
          <a:stretch/>
        </p:blipFill>
        <p:spPr>
          <a:xfrm>
            <a:off x="5791320" y="2514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457200" y="2057400"/>
            <a:ext cx="5334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walk around and look at the expectations under each Big Idea and consider whether you agree or disagree with their 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houghts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475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some Big Ideas easier to match to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courses seem to have more proportional reasoning than others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720" indent="-50472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anything that stood out for you during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suurtal\Local Settings\Temporary Internet Files\Content.IE5\OAZ122F2\MC900445118[1].wmf"/>
          <p:cNvPicPr/>
          <p:nvPr/>
        </p:nvPicPr>
        <p:blipFill>
          <a:blip r:embed="rId1"/>
          <a:stretch/>
        </p:blipFill>
        <p:spPr>
          <a:xfrm>
            <a:off x="8001000" y="5294160"/>
            <a:ext cx="5335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2952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pond to one of the following with each partn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e value of focusing on the same Big Ideas in proportional reasoning from K – 12 might be that…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d you have any “aha” moments today, or were there ideas that challenged your thinking?  If so, wha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suurtal\Local Settings\Temporary Internet Files\Content.IE5\NIYPG7VX\MC900441990[1].wmf"/>
          <p:cNvPicPr/>
          <p:nvPr/>
        </p:nvPicPr>
        <p:blipFill>
          <a:blip r:embed="rId1"/>
          <a:stretch/>
        </p:blipFill>
        <p:spPr>
          <a:xfrm>
            <a:off x="701028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will find something for 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15328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we do an around the room – hi my name is…. Before we do the beach 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each Ball Introduc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828440"/>
            <a:ext cx="5791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 small groups, pass the beach ball to each other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spcAft>
                <a:spcPts val="1800"/>
              </a:spcAft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hen you catch the beach ball, answer the question that is closest to your left thumb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Picture 2" descr="balls,beach balls,leisure,recreation"/>
          <p:cNvPicPr/>
          <p:nvPr/>
        </p:nvPicPr>
        <p:blipFill>
          <a:blip r:embed="rId1"/>
          <a:stretch/>
        </p:blipFill>
        <p:spPr>
          <a:xfrm>
            <a:off x="6705720" y="4343400"/>
            <a:ext cx="2104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85800" y="1676520"/>
            <a:ext cx="80010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1905120"/>
            <a:ext cx="777240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ore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ke connections between course expectations to the Big Ideas of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matching problems involving proportional reasoning to the Bi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Where is proportional reasoning?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176040" y="1566720"/>
            <a:ext cx="87552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’s do some math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of the problems on the page and comple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e problem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id you, or could you have, used proportional reasoning when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342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big idea(s) might be addressed with the problem you ch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nding conversation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160" y="1904760"/>
            <a:ext cx="6172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one in the room who completed the same problem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40" indent="-26460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versation about what proportional reasoning was involved and which big idea(s) you think the problem might connect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www.clker.com/cliparts/5/b/9/8/1194984513646717809chat_icon_01.svg.hi.png"/>
          <p:cNvPicPr/>
          <p:nvPr/>
        </p:nvPicPr>
        <p:blipFill>
          <a:blip r:embed="rId1"/>
          <a:stretch/>
        </p:blipFill>
        <p:spPr>
          <a:xfrm>
            <a:off x="6400800" y="4114800"/>
            <a:ext cx="25495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Matching Expectations to Big Idea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23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sets of expectations that you are familia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as a team to determine which Big Idea each expectation connects to (try to narrow it down to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each expectation on the chart paper with the Big Idea you connected i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57200" y="4800600"/>
            <a:ext cx="1447920" cy="144792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BF 3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1981080" y="5257800"/>
            <a:ext cx="152424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EL 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AP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657600" y="4648320"/>
            <a:ext cx="1523880" cy="152388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T 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HF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410080" y="5029200"/>
            <a:ext cx="1600200" cy="160020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V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DM 4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086600" y="4724280"/>
            <a:ext cx="1523880" cy="1524240"/>
          </a:xfrm>
          <a:prstGeom prst="ellipse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R 3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MCF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7T12:59:04Z</dcterms:created>
  <dc:creator>Liisa Suurtamm</dc:creator>
  <dc:description/>
  <dc:language>en-US</dc:language>
  <cp:lastModifiedBy>Liisa Suurtamm</cp:lastModifiedBy>
  <dcterms:modified xsi:type="dcterms:W3CDTF">2010-08-10T23:14:37Z</dcterms:modified>
  <cp:revision>45</cp:revision>
  <dc:subject/>
  <dc:title>Slide 1</dc:title>
</cp:coreProperties>
</file>